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marL="119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19880" indent="-11988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19880" indent="-119880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119880" indent="-11988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119880" indent="-1198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119880" indent="-1198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119880" indent="-1198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291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291600" indent="-29160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291600" indent="-291600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91600" indent="-29160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91600" indent="-29160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91600" indent="-29160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91600" indent="-29160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UGDPKOGep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1054080"/>
            <a:ext cx="1046484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ow to write a feature article!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837000" y="5868360"/>
            <a:ext cx="113133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Article de fond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aller au fond des choses sous un angle préci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"/>
          <p:cNvSpPr/>
          <p:nvPr/>
        </p:nvSpPr>
        <p:spPr>
          <a:xfrm>
            <a:off x="338040" y="443160"/>
            <a:ext cx="8856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halkboard"/>
                <a:ea typeface="MS PGothic"/>
              </a:rPr>
              <a:t>Key elements of a feature article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2220840" y="1471680"/>
            <a:ext cx="41277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Headline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Second headline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Controlling idea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3242880" y="4169160"/>
            <a:ext cx="1523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Byline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7223760" y="2111760"/>
            <a:ext cx="1206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Lead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644840" y="5169960"/>
            <a:ext cx="2916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Quote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Pull-Quote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9092520" y="2731680"/>
            <a:ext cx="20152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Picture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Caption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7639920" y="6399360"/>
            <a:ext cx="32194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Paragraph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with/without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subheading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4015440" y="7432920"/>
            <a:ext cx="2161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Sidebar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824800" y="4192200"/>
            <a:ext cx="2734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Written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in column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85320" y="4506840"/>
            <a:ext cx="128419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Chalkboard"/>
                <a:ea typeface="MS PGothic"/>
                <a:hlinkClick r:id="rId1"/>
              </a:rPr>
              <a:t>http://www.youtube.com/watch?v=dUGDPKOGep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 FEATURE ARCTICL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FORM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NTERTAIN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ERSUAD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"/>
          <p:cNvSpPr/>
          <p:nvPr/>
        </p:nvSpPr>
        <p:spPr>
          <a:xfrm>
            <a:off x="442800" y="635040"/>
            <a:ext cx="1093464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Feature articles aim to inform, entertain and persuade readers. But most articles will do all three to some degree. You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  <a:ea typeface="MS PGothic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ll need to grab the reader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  <a:ea typeface="MS PGothic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s attention quickly and hold that attention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495360" y="4876920"/>
            <a:ext cx="1083312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Writing a good feature article isn</a:t>
            </a:r>
            <a:r>
              <a:rPr b="0" lang="ja-JP" sz="4200" spc="-1" strike="noStrike">
                <a:solidFill>
                  <a:srgbClr val="ffffff"/>
                </a:solidFill>
                <a:latin typeface="Arial"/>
                <a:ea typeface="MS PGothic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t easy and there are many aspects that combine together to make  a great and smooth flowing article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>
            <a:off x="635040" y="1270080"/>
            <a:ext cx="1203948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Feature arcticles are detailed pieces of writing which explore a range of issues, opinions experiences and ideas.  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584280" y="3416400"/>
            <a:ext cx="12141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The purpose of a feature article will vary depending on the media it is meant for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635040" y="5016600"/>
            <a:ext cx="120394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It will also be tailored for a specific audience (readers).  For example if a magazine targets middle aged women, then the articles, advertising and pictures withing the magazine would reflect their interest in lifestyle, money, health, career and relationships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ZoneTexte 1"/>
          <p:cNvSpPr/>
          <p:nvPr/>
        </p:nvSpPr>
        <p:spPr>
          <a:xfrm>
            <a:off x="10888560" y="3833640"/>
            <a:ext cx="1843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1031400" y="498600"/>
            <a:ext cx="5151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A feature article can: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193760" y="1473120"/>
            <a:ext cx="11125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be informative, entertaining, persuasive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1193760" y="2514600"/>
            <a:ext cx="11125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provide more information about an important issue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193760" y="4483080"/>
            <a:ext cx="11125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offer an opinion about current affaires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1193760" y="5600880"/>
            <a:ext cx="111250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present a personal or humorous perspective on modern day life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"/>
          <p:cNvSpPr/>
          <p:nvPr/>
        </p:nvSpPr>
        <p:spPr>
          <a:xfrm>
            <a:off x="4775040" y="584280"/>
            <a:ext cx="7162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Feature articles are different from news reports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635040" y="2590920"/>
            <a:ext cx="5867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News reports go out of date very quickly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2666880" y="4597560"/>
            <a:ext cx="858528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Feature articles have a more general focus, so they do not go out of date after a few days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"/>
          <p:cNvSpPr/>
          <p:nvPr/>
        </p:nvSpPr>
        <p:spPr>
          <a:xfrm>
            <a:off x="706680" y="486000"/>
            <a:ext cx="837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Types of Feature Articles include: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469800" y="1352520"/>
            <a:ext cx="12217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1. Analysis and opinon on current issues,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2. Profiles of, or interviews with well known-people,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469800" y="2825640"/>
            <a:ext cx="10642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3. Humorous reflections,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4. Personal experiences or anecdotes,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68360" y="4254480"/>
            <a:ext cx="1085832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5.Background information on local, national or 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international events, 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6. Magazine article,.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469800" y="6324480"/>
            <a:ext cx="112014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7. Human interest stories,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8. Newspaper articles,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  <a:ea typeface="MS PGothic"/>
              </a:rPr>
              <a:t>9. Background information and personal opinion.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1"/>
          <p:cNvSpPr/>
          <p:nvPr/>
        </p:nvSpPr>
        <p:spPr>
          <a:xfrm>
            <a:off x="596880" y="876240"/>
            <a:ext cx="6870600" cy="5004000"/>
          </a:xfrm>
          <a:custGeom>
            <a:avLst/>
            <a:gdLst/>
            <a:ahLst/>
            <a:rect l="l" t="t" r="r" b="b"/>
            <a:pathLst>
              <a:path w="19509" h="21600">
                <a:moveTo>
                  <a:pt x="721" y="0"/>
                </a:moveTo>
                <a:cubicBezTo>
                  <a:pt x="323" y="0"/>
                  <a:pt x="0" y="491"/>
                  <a:pt x="0" y="1096"/>
                </a:cubicBezTo>
                <a:lnTo>
                  <a:pt x="0" y="20504"/>
                </a:lnTo>
                <a:cubicBezTo>
                  <a:pt x="0" y="21109"/>
                  <a:pt x="323" y="21600"/>
                  <a:pt x="721" y="21600"/>
                </a:cubicBezTo>
                <a:lnTo>
                  <a:pt x="18787" y="21600"/>
                </a:lnTo>
                <a:cubicBezTo>
                  <a:pt x="19186" y="21600"/>
                  <a:pt x="19509" y="21109"/>
                  <a:pt x="19509" y="20504"/>
                </a:cubicBezTo>
                <a:lnTo>
                  <a:pt x="19509" y="18473"/>
                </a:lnTo>
                <a:lnTo>
                  <a:pt x="21600" y="17927"/>
                </a:lnTo>
                <a:lnTo>
                  <a:pt x="19509" y="17380"/>
                </a:lnTo>
                <a:lnTo>
                  <a:pt x="19509" y="1096"/>
                </a:lnTo>
                <a:cubicBezTo>
                  <a:pt x="19509" y="491"/>
                  <a:pt x="19186" y="0"/>
                  <a:pt x="18787" y="0"/>
                </a:cubicBezTo>
                <a:lnTo>
                  <a:pt x="721" y="0"/>
                </a:lnTo>
                <a:close/>
                <a:moveTo>
                  <a:pt x="721" y="0"/>
                </a:move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Rectangle 2"/>
          <p:cNvSpPr/>
          <p:nvPr/>
        </p:nvSpPr>
        <p:spPr>
          <a:xfrm>
            <a:off x="1231920" y="1473120"/>
            <a:ext cx="613404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MS PGothic"/>
              </a:rPr>
              <a:t>FEATURE ARTICLES ARE NOT JUST DRY FACTS, THEY PROVIDE STORY AND INFORMATION FROM A UNIQUE ANGLE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6" name="Picture 3" descr=""/>
          <p:cNvPicPr/>
          <p:nvPr/>
        </p:nvPicPr>
        <p:blipFill>
          <a:blip r:embed="rId1"/>
          <a:stretch/>
        </p:blipFill>
        <p:spPr>
          <a:xfrm>
            <a:off x="8277120" y="4000680"/>
            <a:ext cx="20113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Pinard</dc:creator>
  <dc:description/>
  <dc:language>en-US</dc:language>
  <cp:lastModifiedBy>Jose Pinard</cp:lastModifiedBy>
  <dcterms:modified xsi:type="dcterms:W3CDTF">2014-04-09T18:59:52Z</dcterms:modified>
  <cp:revision>2</cp:revision>
  <dc:subject/>
  <dc:title>How to write a feature article!</dc:title>
</cp:coreProperties>
</file>